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959-2834-4582-846E-89CFB8C2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629-6C04-4BA9-B02F-97FDE5AE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D7C-4DBF-4548-A95E-E694BB5E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CC0-41AD-4145-B250-14A56873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36C-874E-4DBE-9A89-1E20A55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41F-8D32-4886-9667-C465F812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F2B-3B72-424D-9410-80B1531D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C47-120C-42A9-8DE6-C736507C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C2C-F781-4842-91F1-0B01211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B3B-9EFF-4CA7-8D1E-5DB350A9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4B9-E43C-47E0-85CE-7E9F5632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6E6-2550-47A9-B3AE-40DDC19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3F10-167F-4919-ADCD-7CB9CE32D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Desig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sitio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changing a product’s image in relation to its competitor’s im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prlog.org/10748511-new-balance-shoesdiscount-shoes-best-shoes-deals.jpg"/>
          <p:cNvPicPr/>
          <p:nvPr/>
        </p:nvPicPr>
        <p:blipFill>
          <a:blip r:embed="rId1"/>
          <a:stretch/>
        </p:blipFill>
        <p:spPr>
          <a:xfrm>
            <a:off x="2514600" y="3276720"/>
            <a:ext cx="36860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I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pecific model or size of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572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57200" y="2514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of closely relat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45720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457200" y="4038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 products a company m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apong.info/wp-content/uploads/2012/08/nike-shoes.jpg"/>
          <p:cNvPicPr/>
          <p:nvPr/>
        </p:nvPicPr>
        <p:blipFill>
          <a:blip r:embed="rId1"/>
          <a:stretch/>
        </p:blipFill>
        <p:spPr>
          <a:xfrm>
            <a:off x="7010280" y="533520"/>
            <a:ext cx="1676520" cy="110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counterkicks.com/wp-content/uploads/2012/07/nike-ctr360-trequartista-cleat-nike-id-81-640x404.jpg"/>
          <p:cNvPicPr/>
          <p:nvPr/>
        </p:nvPicPr>
        <p:blipFill>
          <a:blip r:embed="rId2"/>
          <a:stretch/>
        </p:blipFill>
        <p:spPr>
          <a:xfrm>
            <a:off x="5943600" y="2133720"/>
            <a:ext cx="3048120" cy="19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www.sneakerfiles.com/wp-content/uploads/2007/07/nike-kobe-3-clothing-line-4.jpg"/>
          <p:cNvPicPr/>
          <p:nvPr/>
        </p:nvPicPr>
        <p:blipFill>
          <a:blip r:embed="rId3"/>
          <a:stretch/>
        </p:blipFill>
        <p:spPr>
          <a:xfrm>
            <a:off x="380880" y="4495680"/>
            <a:ext cx="2743200" cy="216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ighsnobiety.com/news/wp-content/uploads/2009/08/nike-sb-august-10-540x367.jpg"/>
          <p:cNvPicPr/>
          <p:nvPr/>
        </p:nvPicPr>
        <p:blipFill>
          <a:blip r:embed="rId4"/>
          <a:stretch/>
        </p:blipFill>
        <p:spPr>
          <a:xfrm>
            <a:off x="3505320" y="4800600"/>
            <a:ext cx="2514600" cy="17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baseballplusstore.com/product_images/p/474/bt0601__22697_zoom.jpg"/>
          <p:cNvPicPr/>
          <p:nvPr/>
        </p:nvPicPr>
        <p:blipFill>
          <a:blip r:embed="rId5"/>
          <a:stretch/>
        </p:blipFill>
        <p:spPr>
          <a:xfrm>
            <a:off x="5334120" y="4648320"/>
            <a:ext cx="36194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mer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d and used by the ultimate consumer for personal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d by the organization for use in their ope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brentwood.thefuntimesguide.com/images/blogs/shoes-and-socks-fleet-feet.jpg"/>
          <p:cNvPicPr/>
          <p:nvPr/>
        </p:nvPicPr>
        <p:blipFill>
          <a:blip r:embed="rId1"/>
          <a:stretch/>
        </p:blipFill>
        <p:spPr>
          <a:xfrm>
            <a:off x="2590920" y="3657600"/>
            <a:ext cx="4114800" cy="27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of Dif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unique characteristic or benefit that sets the product apart from a competitor’s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notflashyjustbright.com/wp-content/uploads/2011/11/2011-World-Series-Sound-Check-Music-Blog.jpeg"/>
          <p:cNvPicPr/>
          <p:nvPr/>
        </p:nvPicPr>
        <p:blipFill>
          <a:blip r:embed="rId1"/>
          <a:stretch/>
        </p:blipFill>
        <p:spPr>
          <a:xfrm>
            <a:off x="2895480" y="2819520"/>
            <a:ext cx="3400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in New Product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een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iz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upload.wikimedia.org/wikipedia/commons/thumb/0/0b/SWOT_en.svg/360px-SWOT_en.svg.png"/>
          <p:cNvPicPr/>
          <p:nvPr/>
        </p:nvPicPr>
        <p:blipFill>
          <a:blip r:embed="rId1"/>
          <a:srcRect l="0" t="15323" r="0" b="0"/>
          <a:stretch/>
        </p:blipFill>
        <p:spPr>
          <a:xfrm>
            <a:off x="3505320" y="1447920"/>
            <a:ext cx="4419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nel of six to ten consumers who discuss their opinions about a topic under the guidance of a moder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msresearchinc.com/images/Focus%20Group.jpg"/>
          <p:cNvPicPr/>
          <p:nvPr/>
        </p:nvPicPr>
        <p:blipFill>
          <a:blip r:embed="rId1"/>
          <a:stretch/>
        </p:blipFill>
        <p:spPr>
          <a:xfrm>
            <a:off x="2666880" y="34290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process that involves producing and marketing a new produ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fe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roduction – main focus is promoting consumer awareness and getting consumers to try the produ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th – more competitors enter the marketplace if they see a new product is successful (Powerade/Gatorade) Distribution is importa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urity – sales begin to slow 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line – sales begin to drop. Technology advances can cause entire categories to entire decline s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0:25:34Z</dcterms:created>
  <dc:creator>Christina</dc:creator>
  <dc:description/>
  <dc:language>en-US</dc:language>
  <cp:lastModifiedBy>Christina</cp:lastModifiedBy>
  <dcterms:modified xsi:type="dcterms:W3CDTF">2012-10-12T01:00:37Z</dcterms:modified>
  <cp:revision>7</cp:revision>
  <dc:subject/>
  <dc:title>Product Design </dc:title>
</cp:coreProperties>
</file>